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9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3354-85EE-48CD-80E2-F6D91781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C4CC-1AC4-4CEB-B115-D3B88FD4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2503-6D0F-4F87-92F1-F31026A3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974C-DF4C-494C-BE94-54878C1A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6B0-E935-462E-8B5A-5894811D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32A7-633E-490A-BB08-F5A5BC67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8900-F4A8-4E08-91B6-2D35468B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C5C-2605-4965-AD80-5B7223E4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858C-006B-456E-948A-33E89BEB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CCF-FDDE-4D0A-910C-E3AE43D2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C8A-BACA-424D-8A84-03A3B584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D9A-695E-4001-A894-219415C6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7524-A409-4C3F-843C-56E3E6C11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1.dortmund.de/themen/stadtportrait/fotopool/detail.jsp?cid=6476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1.dortmund.de/themen/stadtportrait/fotopool/detail.jsp?cid=6235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1.dortmund.de/themen/stadtportrait/fotopool/detail.jsp?cid=6192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059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Lars Tata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 University of Dortmund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 Spatial Planning i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From Steel Town to E-City</a:t>
            </a:r>
            <a:r>
              <a:rPr b="1" lang="en-GB" sz="4000" spc="-1" strike="noStrike">
                <a:solidFill>
                  <a:srgbClr val="000000"/>
                </a:solidFill>
                <a:latin typeface="Impac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tructural Change as a Permanent Challenge - the Case of Dortm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RITICAL Cities Conference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Innovation, Communities and Sustainable Reg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 CRITICAL Dialogue Between Five C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Melbourne, 29 Sept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welcome%20dortmund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29480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380880"/>
            <a:ext cx="944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Approaches in the knowledge era </a:t>
            </a:r>
            <a:br>
              <a:rPr sz="3200"/>
            </a:b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he world and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Montreal%201a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3292200"/>
          </a:xfrm>
          <a:prstGeom prst="rect">
            <a:avLst/>
          </a:prstGeom>
          <a:ln w="0">
            <a:noFill/>
          </a:ln>
        </p:spPr>
      </p:pic>
      <p:pic>
        <p:nvPicPr>
          <p:cNvPr id="86" name="Montreal%201b" descr=""/>
          <p:cNvPicPr/>
          <p:nvPr/>
        </p:nvPicPr>
        <p:blipFill>
          <a:blip r:embed="rId2"/>
          <a:stretch/>
        </p:blipFill>
        <p:spPr>
          <a:xfrm>
            <a:off x="4191120" y="2514600"/>
            <a:ext cx="4952880" cy="2482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191120" y="502920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Narrow"/>
              </a:rPr>
              <a:t>Source: Michaud, Pascale (2003) Montréal, Knowledge 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56386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2133720"/>
            <a:ext cx="1600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3300"/>
                </a:solidFill>
                <a:latin typeface="Arial"/>
              </a:rPr>
              <a:t>Dortmu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752480"/>
            <a:ext cx="5562720" cy="52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Increased perception of the importance of culture and 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Huge public investments (e.g. new concert hall, new public library, museu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Industrial heritage: Reinterpretation and new use of former steel and coal buildings and spaces (since the 90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Concentration on flagship projects (“Phoenix Lak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Careful reorganisation of the public 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Outsourcing of certain, especially, development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Economic promotion: concentration on certain cluster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(IT, logistics, MEMS, biomedic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Strong efforts from public and private actors to further develop a networking culture (branch-related event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380880"/>
            <a:ext cx="944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Actual policy approaches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br>
              <a:rPr sz="3200"/>
            </a:b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Dortm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konz_haus10.8765.200x266" descr="Konzerthaus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380880"/>
            <a:ext cx="2286000" cy="3040200"/>
          </a:xfrm>
          <a:prstGeom prst="rect">
            <a:avLst/>
          </a:prstGeom>
          <a:ln w="0">
            <a:noFill/>
          </a:ln>
        </p:spPr>
      </p:pic>
      <p:pic>
        <p:nvPicPr>
          <p:cNvPr id="93" name="hochofen_phoenix_west.8805.420x560" descr="Hochofen Phönix West"/>
          <p:cNvPicPr/>
          <p:nvPr/>
        </p:nvPicPr>
        <p:blipFill>
          <a:blip r:embed="rId3"/>
          <a:stretch/>
        </p:blipFill>
        <p:spPr>
          <a:xfrm>
            <a:off x="6553080" y="3429000"/>
            <a:ext cx="228600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380880"/>
            <a:ext cx="944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luster policy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universitaet_hbahn.8555.200x149" descr="H-Bahn an der Uni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343400"/>
            <a:ext cx="2511360" cy="1871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8600" y="914400"/>
            <a:ext cx="4876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mpetence field policy” since the 80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echnology Park and C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2000: “dortmund-project” (dp) as new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Understanding as comprehensive economic development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Goal: up to 70,000 jobs until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ncentration on promising indus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Basic components of the cluster policy of 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tart-up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mpany growth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ggressive company recrui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nhancing of qualification and training 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rovision of branch-related infrastructure (ECC, MST-factory, e-port, BioMedCe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ogo%20dortmund-project-freigeschaltet" descr=""/>
          <p:cNvPicPr/>
          <p:nvPr/>
        </p:nvPicPr>
        <p:blipFill>
          <a:blip r:embed="rId3"/>
          <a:stretch/>
        </p:blipFill>
        <p:spPr>
          <a:xfrm>
            <a:off x="5943600" y="1219320"/>
            <a:ext cx="259092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380880"/>
            <a:ext cx="944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Example: MEMS cluster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914400"/>
            <a:ext cx="4800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MEMS: Micro-Electronic-Mechanica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24 companie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,600 employees (= one third of Europ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echnical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Arial"/>
              </a:rPr>
              <a:t>Microtechnology Centre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(incl. clean room and other facilit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Arial"/>
              </a:rPr>
              <a:t>Centre for Modular Interface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tart-up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ll micro” (Europe-wide announced founders’ cont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MST-factory as special centre for foun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Further pla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IVAM: MEMS company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MEMS-related research instit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914400"/>
            <a:ext cx="4800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ular nationwide and international MEMS company con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volution of the cluster not university-driven; initial point was a company settlement in the early 80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ome facilities and courses at the universities have been recently established to fill this academic gab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(as clear strategic measures of the cluster polic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mst-logo" descr=""/>
          <p:cNvPicPr/>
          <p:nvPr/>
        </p:nvPicPr>
        <p:blipFill>
          <a:blip r:embed="rId1"/>
          <a:stretch/>
        </p:blipFill>
        <p:spPr>
          <a:xfrm>
            <a:off x="5334120" y="5867280"/>
            <a:ext cx="3394080" cy="617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86200" y="426708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mbitious and plausible cluster approach with promising development perspectiv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380880"/>
            <a:ext cx="944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Outlook and challenges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838080"/>
            <a:ext cx="4572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tabilisation of cluster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romotion/support of other industri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reation of jobs, especially for low qualified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nhancing of soft location factors (cultural provision, housing opportunities, flagship projects, e.g. central station as shop m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Upgrading of academic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Internationalisation of the location as a who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trengthening of the regional dimension (changed attitude towards the Rhine-Ruhr region as metropolis of 10 million people and the potentials of being part of 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kaiserstuhl.8540.200x266" descr="Kokerei Kaiserstuhl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981080"/>
            <a:ext cx="22860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steeltown%20ecit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8120" y="6583320"/>
            <a:ext cx="60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Narrow"/>
              </a:rPr>
              <a:t>Source: Wirtschafts- und Beschäftigungsförderung Dortmund (2003) High-Tech at the heart of Eur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523880"/>
            <a:ext cx="426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60:  75,000 employees in coal and ste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80:  43,000 employees in coal and steel 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         half of employees in seconda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2004:  no more employment in coal and ste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&gt; 75 % of employment in tertiary sector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         35,000 people in IT, logistic and MEM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808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From coal and steel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4724280"/>
            <a:ext cx="33526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29052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In 40 years from steel an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coal town to a service an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technology loc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(by avoiding social exclu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241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724280" y="1600200"/>
          <a:ext cx="4067280" cy="22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0672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minister_stein03.8568.420x314" descr="Förderturm der ehemaligen Zeche Minister Stein"/>
          <p:cNvPicPr/>
          <p:nvPr/>
        </p:nvPicPr>
        <p:blipFill>
          <a:blip r:embed="rId3"/>
          <a:stretch/>
        </p:blipFill>
        <p:spPr>
          <a:xfrm>
            <a:off x="5486400" y="4114800"/>
            <a:ext cx="3276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37160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adical change to service and high-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Formation of innovative and promis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branches/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hange of qualification struc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(from heavy-work to brain-wo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Increased share of employed universit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gradu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Increased number of students an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researchers studying/working in the cit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808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Impact"/>
              </a:rPr>
              <a:t>Features of  the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800600"/>
            <a:ext cx="4191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9960" indent="-21276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mpared to other cities of the Ruhr region development has been higher-than-average, situation is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371600"/>
            <a:ext cx="41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roblem: new leading industries have not completely replaced the old 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Lack of employment, effect: permanent unemployment rate of 1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hare of economically and socially excluded people gets high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8006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9960" indent="-21276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mpared to other German cities of Dortmund’s size the economic status is below 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1143000"/>
            <a:ext cx="883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68 University of Dortmund is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echnical orien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Unique discip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25,000 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69 Institute for Occupational Physiology at the University of Dortm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(Leibniz Research Centre for Working Environment and Human Fac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71 University of Applied Scien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One of the biggest “Fachhochschulen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echnical orien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9,000 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72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itute for Regional and Urban Development of North Rhine-Westphal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972 Institute of Spectrochemistry and Applied Spectroscopy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t the University of Dortm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81 Fraunhofer Institute for Material Flow and Log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80880"/>
            <a:ext cx="944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hange factor KNOWLEDGE </a:t>
            </a:r>
            <a:r>
              <a:rPr b="0" lang="en-GB" sz="1800" spc="-1" strike="noStrike">
                <a:solidFill>
                  <a:srgbClr val="000000"/>
                </a:solidFill>
                <a:latin typeface="Impact"/>
              </a:rPr>
              <a:t>(1/3)</a:t>
            </a:r>
            <a:r>
              <a:rPr b="1" lang="en-GB" sz="3200" spc="-1" strike="noStrike">
                <a:solidFill>
                  <a:srgbClr val="000000"/>
                </a:solidFill>
                <a:latin typeface="Impact"/>
              </a:rPr>
              <a:t> </a:t>
            </a:r>
            <a:br>
              <a:rPr sz="3200"/>
            </a:b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rtmund‘s emergence as knowledge 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9753480" y="-5181480"/>
            <a:ext cx="195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8088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85 Technology Park and Technology C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ntinuous grow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echnology Park: 230 companies with 8,500 employe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50% in IT, logistics, and M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Others are environmental technology, biomedicine, bioinfor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echnology Centre as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ix buildings, 60 companies, 1,300 job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Technologiepark%20Do%20Zeitverlauf" descr=""/>
          <p:cNvPicPr/>
          <p:nvPr/>
        </p:nvPicPr>
        <p:blipFill>
          <a:blip r:embed="rId1"/>
          <a:stretch/>
        </p:blipFill>
        <p:spPr>
          <a:xfrm>
            <a:off x="685800" y="2500200"/>
            <a:ext cx="7010280" cy="4133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81080" y="6583320"/>
            <a:ext cx="678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Narrow"/>
              </a:rPr>
              <a:t>Source: Wirtschafts- und Beschäftigungsförderung Dortmund (2003) High-Tech at the heart of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echnoPark%20Do%20Luftbild" descr=""/>
          <p:cNvPicPr/>
          <p:nvPr/>
        </p:nvPicPr>
        <p:blipFill>
          <a:blip r:embed="rId1"/>
          <a:stretch/>
        </p:blipFill>
        <p:spPr>
          <a:xfrm>
            <a:off x="3962520" y="3227400"/>
            <a:ext cx="5181480" cy="3630600"/>
          </a:xfrm>
          <a:prstGeom prst="rect">
            <a:avLst/>
          </a:prstGeom>
          <a:ln w="0">
            <a:noFill/>
          </a:ln>
        </p:spPr>
      </p:pic>
      <p:pic>
        <p:nvPicPr>
          <p:cNvPr id="63" name="Plan%20Uni%20Do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8088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90 International School of Management Dortmund (I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92 Fraunhofer Institute for Software and Systems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92 Max Planck Institute of Molecular Physiolo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92 “windo”, the Working Committee of the Scientific Institutions of Dortm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97 University of Dortmund joins European Consortium of Innovative Universities (ECIU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2000 IT-Center Dortmu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windo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3098880" cy="2712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64771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Narrow"/>
              </a:rPr>
              <a:t>Source: http://www.windo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42670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oday the Dortmun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    knowledge complex is th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    engine of economic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    development in the region</a:t>
            </a: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447920"/>
            <a:ext cx="91440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3880" y="1395360"/>
          <a:ext cx="609768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521000" y="1390680"/>
          <a:ext cx="6242040" cy="4064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1000" y="1390680"/>
                    <a:ext cx="6242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Abbildung%20Institute2" descr=""/>
          <p:cNvPicPr/>
          <p:nvPr/>
        </p:nvPicPr>
        <p:blipFill>
          <a:blip r:embed="rId5"/>
          <a:stretch/>
        </p:blipFill>
        <p:spPr>
          <a:xfrm>
            <a:off x="3276720" y="1523880"/>
            <a:ext cx="2976480" cy="3962520"/>
          </a:xfrm>
          <a:prstGeom prst="rect">
            <a:avLst/>
          </a:prstGeom>
          <a:ln w="0">
            <a:noFill/>
          </a:ln>
        </p:spPr>
      </p:pic>
      <p:pic>
        <p:nvPicPr>
          <p:cNvPr id="74" name="Abbildung%20Institut3" descr=""/>
          <p:cNvPicPr/>
          <p:nvPr/>
        </p:nvPicPr>
        <p:blipFill>
          <a:blip r:embed="rId6"/>
          <a:stretch/>
        </p:blipFill>
        <p:spPr>
          <a:xfrm>
            <a:off x="38160" y="1523880"/>
            <a:ext cx="3238560" cy="3962520"/>
          </a:xfrm>
          <a:prstGeom prst="rect">
            <a:avLst/>
          </a:prstGeom>
          <a:ln w="0">
            <a:noFill/>
          </a:ln>
        </p:spPr>
      </p:pic>
      <p:pic>
        <p:nvPicPr>
          <p:cNvPr id="75" name="Abbildung%20Institute" descr=""/>
          <p:cNvPicPr/>
          <p:nvPr/>
        </p:nvPicPr>
        <p:blipFill>
          <a:blip r:embed="rId7"/>
          <a:stretch/>
        </p:blipFill>
        <p:spPr>
          <a:xfrm>
            <a:off x="6248520" y="1523880"/>
            <a:ext cx="2786040" cy="3962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80880"/>
            <a:ext cx="944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hange factor KNOWLEDGE </a:t>
            </a:r>
            <a:r>
              <a:rPr b="0" lang="en-GB" sz="1800" spc="-1" strike="noStrike">
                <a:solidFill>
                  <a:srgbClr val="000000"/>
                </a:solidFill>
                <a:latin typeface="Impact"/>
              </a:rPr>
              <a:t>(2/3)</a:t>
            </a:r>
            <a:r>
              <a:rPr b="1" lang="en-GB" sz="3200" spc="-1" strike="noStrike">
                <a:solidFill>
                  <a:srgbClr val="000000"/>
                </a:solidFill>
                <a:latin typeface="Impact"/>
              </a:rPr>
              <a:t> </a:t>
            </a:r>
            <a:br>
              <a:rPr sz="3200"/>
            </a:b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rtmund knowledge com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62520" y="1828800"/>
            <a:ext cx="1371600" cy="10666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429000"/>
            <a:ext cx="1447560" cy="19051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9980000">
            <a:off x="2514600" y="4419360"/>
            <a:ext cx="1022400" cy="16477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334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44880" y="67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Cluster in Dortmund" descr=""/>
          <p:cNvPicPr/>
          <p:nvPr/>
        </p:nvPicPr>
        <p:blipFill>
          <a:blip r:embed="rId1"/>
          <a:stretch/>
        </p:blipFill>
        <p:spPr>
          <a:xfrm>
            <a:off x="1295280" y="1349280"/>
            <a:ext cx="4854600" cy="5508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880" y="380880"/>
            <a:ext cx="944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hange factor KNOWLEDGE </a:t>
            </a:r>
            <a:r>
              <a:rPr b="0" lang="en-GB" sz="1800" spc="-1" strike="noStrike">
                <a:solidFill>
                  <a:srgbClr val="000000"/>
                </a:solidFill>
                <a:latin typeface="Impact"/>
              </a:rPr>
              <a:t>(3/3)</a:t>
            </a:r>
            <a:r>
              <a:rPr b="1" lang="en-GB" sz="3200" spc="-1" strike="noStrike">
                <a:solidFill>
                  <a:srgbClr val="000000"/>
                </a:solidFill>
                <a:latin typeface="Impact"/>
              </a:rPr>
              <a:t> </a:t>
            </a:r>
            <a:br>
              <a:rPr sz="3200"/>
            </a:b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rtmund knowledge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9:22:33Z</dcterms:created>
  <dc:creator>Lars Tata</dc:creator>
  <dc:description/>
  <dc:language>en-US</dc:language>
  <cp:lastModifiedBy>Tata</cp:lastModifiedBy>
  <dcterms:modified xsi:type="dcterms:W3CDTF">2004-09-23T20:02:18Z</dcterms:modified>
  <cp:revision>43</cp:revision>
  <dc:subject>Structural Change</dc:subject>
  <dc:title>From Steel Town to E-City</dc:title>
</cp:coreProperties>
</file>